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70032"/>
        <c:axId val="87283096"/>
      </c:barChart>
      <c:catAx>
        <c:axId val="96970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83096"/>
        <c:crosses val="autoZero"/>
        <c:auto val="1"/>
        <c:lblAlgn val="ctr"/>
        <c:lblOffset val="100"/>
        <c:noMultiLvlLbl val="0"/>
      </c:catAx>
      <c:valAx>
        <c:axId val="87283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70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A11-4102-4E81-9562-9417CDEC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911-7CA7-4F0D-8E68-A711305C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BEB-90EC-4856-86AA-E2205650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34D-1106-4997-986D-17C7388B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BE0-F4B8-4674-B2AC-F765F73C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D9D-AB0E-4AE9-B80D-BFDBB47E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151-9805-4709-85EA-4A5A07F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1E6-916C-4100-8AA6-EEDDE467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4C9-E683-4C3C-98D7-D439913D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C3D-7363-402E-9C82-9BBE920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FAE-EA38-4D92-8279-47B6A1F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C75-0261-4344-BBA5-538D873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769D1-9D40-47AA-9ABD-615F6B5D35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