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367904"/>
        <c:axId val="75391126"/>
      </c:barChart>
      <c:catAx>
        <c:axId val="193679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391126"/>
        <c:crosses val="autoZero"/>
        <c:auto val="1"/>
        <c:lblAlgn val="ctr"/>
        <c:lblOffset val="100"/>
        <c:noMultiLvlLbl val="0"/>
      </c:catAx>
      <c:valAx>
        <c:axId val="753911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3679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EE2F-5A4E-41AE-95AB-22533E99E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ACB5-14BA-4CF6-B1AD-F686C076E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DD1A-3368-478C-87B6-60344DADE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9E7F-A8B5-44ED-9195-AD5C1D8D9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7C90-D3C7-4DB4-AF06-17428C312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F801-69DC-46AD-98AA-88FE446F5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6AE6-66EF-4322-AE60-B5629C878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0F87-FDF9-4397-928B-F7D8E68CF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275B-FB1E-4C29-915F-602DF4BC6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90FF-6634-41A0-A06B-0EFF177F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22BB-E76D-43A0-BA99-D3FB1790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5AD1-BD0A-42F9-8084-76EFFDB0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642B7C-2450-45A4-92C2-CEB83DD4609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