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568160"/>
        <c:axId val="24002172"/>
      </c:barChart>
      <c:catAx>
        <c:axId val="255681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02172"/>
        <c:crosses val="autoZero"/>
        <c:auto val="1"/>
        <c:lblAlgn val="ctr"/>
        <c:lblOffset val="100"/>
        <c:noMultiLvlLbl val="0"/>
      </c:catAx>
      <c:valAx>
        <c:axId val="240021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681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3F85-EC1B-4121-964F-0A95D464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9705-10BA-49FB-9F9E-DD2AD1DF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DDB8-6715-4EC1-A047-8D8A08EC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87E-7F1B-4CDF-BFD2-81AC65B5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7786-1604-4154-A4D6-437D0D02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A5AF-4E11-40A1-AD64-4763E5A7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F5C-0C37-4900-AFEB-DCCC1DB2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970D-E225-41C1-B6F7-5CEE7C70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4D9B-16A7-4A44-B1A8-BC881B3B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CF0C-DDDB-4275-B9AD-55916C99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BC3-0E93-4288-800B-884602E4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728-EE58-4271-9FCF-1ABF1E65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BE5E4-7F58-4E5A-8B36-A32EA321E7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