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16173"/>
        <c:axId val="38317709"/>
      </c:barChart>
      <c:catAx>
        <c:axId val="47416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7709"/>
        <c:crosses val="autoZero"/>
        <c:auto val="1"/>
        <c:lblAlgn val="ctr"/>
        <c:lblOffset val="100"/>
        <c:noMultiLvlLbl val="0"/>
      </c:catAx>
      <c:valAx>
        <c:axId val="38317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16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4AF-0424-41F5-8AF7-B7506587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4BE-52E3-4284-85AD-5B24421C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C4A-E1C5-461C-B618-3E038686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069-7FA4-4864-933C-4FDBDBE0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89C-1921-44A9-A5BA-9DA44320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445-30D6-4CD0-82B5-689EAA7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1D5-710E-473C-8E2C-A506E7A7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948-CAE6-477C-9324-ABB6A79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AF0-861E-48F5-81C8-C151653C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4D5-9CDB-4F09-9638-0394B32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F14-D34B-4E4A-9A44-1CF9AE0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C3B-72DA-4469-B038-87C7911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1DA39-759F-4ABB-A117-F568F92C1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