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46658"/>
        <c:axId val="47672256"/>
      </c:barChart>
      <c:catAx>
        <c:axId val="16146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72256"/>
        <c:crosses val="autoZero"/>
        <c:auto val="1"/>
        <c:lblAlgn val="ctr"/>
        <c:lblOffset val="100"/>
        <c:noMultiLvlLbl val="0"/>
      </c:catAx>
      <c:valAx>
        <c:axId val="47672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46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F6C-B4D3-423A-8CAF-C3949A5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B44-DA5D-4A50-AD66-81CDA2EC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4C7-A1C2-4869-962B-8DBF4C1A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CDF-9EF8-404D-9953-BEC1847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A4C-59E0-4B9B-AA7A-3587D49C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D5A-E1F5-4B3F-8D23-2C6ED53C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209-4412-470F-AE3A-5D80FD3A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C05-349D-4098-BF72-425A6AB0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AFDD-E54E-4B92-8DDB-7FB3E819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542-33B8-412A-A1A1-76F283F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6D7-0509-4036-A6F5-5D4CE37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FCB-02DD-4576-BEF8-6E28BA9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25C2-E2A1-4334-AF09-E5398D1619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