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629"/>
        <c:axId val="3201770"/>
      </c:barChart>
      <c:catAx>
        <c:axId val="4166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770"/>
        <c:crosses val="autoZero"/>
        <c:auto val="1"/>
        <c:lblAlgn val="ctr"/>
        <c:lblOffset val="100"/>
        <c:noMultiLvlLbl val="0"/>
      </c:catAx>
      <c:valAx>
        <c:axId val="3201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FC4-1A43-49C6-9E22-748EDBF1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D21-3861-4F5C-8CCB-504D682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EA9-285C-40B3-8794-36E3FB9C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068-20CB-44B2-9383-3B37E9FD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5EC-F5B0-499C-9F84-CB676DF9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219-130F-49C3-8548-340CBCF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DB4-E561-41D7-BAF5-439E826A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126-7BFF-49AB-8889-ACC18058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28F-8F69-4BC7-91DD-703990D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003-9778-4211-8D0B-F14E6C59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243-B15D-44D2-B898-8DCDCAA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ABA-E407-450D-B881-FFF6310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EA96E-531E-41BF-9E46-55502731BD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