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28520"/>
        <c:axId val="47965461"/>
      </c:barChart>
      <c:catAx>
        <c:axId val="55328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65461"/>
        <c:crosses val="autoZero"/>
        <c:auto val="1"/>
        <c:lblAlgn val="ctr"/>
        <c:lblOffset val="100"/>
        <c:noMultiLvlLbl val="0"/>
      </c:catAx>
      <c:valAx>
        <c:axId val="47965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28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BC1-2A77-426A-97D2-D2258937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2BE-1163-462D-8198-B62D8B0C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3D9-9EFE-4307-A17F-B8AD5A3A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A94-07EA-4320-827D-CE0D51C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95E-F471-402B-93F5-D8EE35B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4F0-D6D8-4DCF-9578-1991E1A1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312-F1DB-4A90-B1AE-F8954E2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D0B-7E61-474A-BE73-0A166955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850-E18A-4001-84FC-9E638426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A3F-28DB-45BF-A19D-3276A06A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341-6A07-401B-BC44-C9DB170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5C7-436B-4BCD-A85E-0226DFA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FE413-7A93-4938-98E1-CCF586E2F9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