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27440"/>
        <c:axId val="15053782"/>
      </c:barChart>
      <c:catAx>
        <c:axId val="78327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3782"/>
        <c:crosses val="autoZero"/>
        <c:auto val="1"/>
        <c:lblAlgn val="ctr"/>
        <c:lblOffset val="100"/>
        <c:noMultiLvlLbl val="0"/>
      </c:catAx>
      <c:valAx>
        <c:axId val="15053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27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D12-CE94-47DE-8FA6-2BC06F7E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D0A-0AD6-4002-9579-42C5097A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BCE-EC14-47FA-A205-F0EEC7FA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72A-9DF6-4332-B182-4B623F02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122-3537-4797-A965-56DC3A0A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30C-5CE1-4EA1-92AC-E87858B1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BC3-B6CA-4B99-8B18-A4CA069C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E76-F389-4900-8D2A-0C049E06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6E4-412D-4794-B693-E7D5DC1F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23B-4B7A-477F-8074-DF87EEE8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272-3B2B-4A88-A011-DDA654D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763-4A13-447D-B3D5-21990700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0014C-AB20-4B21-B7E8-7D237868FE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