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77973"/>
        <c:axId val="22695210"/>
      </c:barChart>
      <c:catAx>
        <c:axId val="35877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95210"/>
        <c:crosses val="autoZero"/>
        <c:auto val="1"/>
        <c:lblAlgn val="ctr"/>
        <c:lblOffset val="100"/>
        <c:noMultiLvlLbl val="0"/>
      </c:catAx>
      <c:valAx>
        <c:axId val="22695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77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1C8-7C9C-4258-B77E-D40B236C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D75-98CC-4376-BA8E-F3D46C9D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10C-5CD0-4E29-A5C5-BDDCA4D8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164-4B23-4D79-B89D-3BD2BF91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DD7-2A14-4444-95B6-BB967F43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32F-0EEE-4927-87C3-94802296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856-E12A-401B-857C-0C918678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D87-42E5-48B5-8790-BBF7C13B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3BA-ADAE-4F22-ACB3-FFBE75BF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8CD-D71C-46E2-BB02-167B6C18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EAB-9CA5-4F1E-90B8-23EE1883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BEB-958C-4182-B586-C651BA5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F4CAC-25BA-4B5D-96F9-F9629CD5B0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