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2431147"/>
        <c:axId val="72304841"/>
      </c:barChart>
      <c:catAx>
        <c:axId val="5243114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304841"/>
        <c:crosses val="autoZero"/>
        <c:auto val="1"/>
        <c:lblAlgn val="ctr"/>
        <c:lblOffset val="100"/>
        <c:noMultiLvlLbl val="0"/>
      </c:catAx>
      <c:valAx>
        <c:axId val="7230484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43114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0D7C2-201A-4454-88D8-7717E6A96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AB116-1DC3-4AF8-ABB2-348C03A86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C3CCE-BD31-44DB-A68C-25C6E5362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72F2C-33C8-41E9-AA62-AAA945301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4C513-CFD5-4294-9027-4976ACDA8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2A21D-D2E0-46B6-A719-2B9D9FD74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7F9AC-0685-4743-8EBB-B87588892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6C61D-68BD-4BD5-9DC9-FC8F2B09C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F2138-F182-4DC1-9BE5-64BB53E2E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80E62-C7F1-4C8A-BBCF-CCEB3DC0F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B66F0-4020-4915-875A-168C48B4A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25DE1-3C28-497A-AB73-3F3F2A114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767369-6FE1-4976-9B5E-4A59CD5100B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