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28220"/>
        <c:axId val="6004996"/>
      </c:barChart>
      <c:catAx>
        <c:axId val="751282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996"/>
        <c:crosses val="autoZero"/>
        <c:auto val="1"/>
        <c:lblAlgn val="ctr"/>
        <c:lblOffset val="100"/>
        <c:noMultiLvlLbl val="0"/>
      </c:catAx>
      <c:valAx>
        <c:axId val="6004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282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B08-1DC4-4E30-B1E2-06879703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8AA9-7330-411D-ADE8-5DC0ADDA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D83-E806-446F-BF1D-12323111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C56-9ECA-4302-8088-B9696FC3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BE5-AB76-4A0B-8574-0DC40BA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68D-9FBA-40F8-B3BE-1D5CA688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E00-C1F3-42A5-A4CE-3B3EE0B9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3FE-0AAA-428D-8D3F-D4DB3D68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413-2420-4B63-8AFB-9B10D451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F37-36AE-4174-9CC8-7A01225E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07A-1156-4CCB-A6AE-A230F495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6BAB-26B2-48C7-9FC7-9EE04B1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65807-D7D9-45D6-9CB1-05886A8F9D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