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453118"/>
        <c:axId val="20390166"/>
      </c:barChart>
      <c:catAx>
        <c:axId val="684531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90166"/>
        <c:crosses val="autoZero"/>
        <c:auto val="1"/>
        <c:lblAlgn val="ctr"/>
        <c:lblOffset val="100"/>
        <c:noMultiLvlLbl val="0"/>
      </c:catAx>
      <c:valAx>
        <c:axId val="203901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4531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0436-0D8A-4479-A993-49F0D7B13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8783-DB28-4E4A-9CE3-35C2E925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83F6-C9AE-4CDE-A4E7-FB6FF7427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BE4B-3895-4D17-920D-1B0EE2AE7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5FF7-1315-4CA1-94EE-566BB5F7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1A9D-8EE7-4337-950E-89F25CFD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FD66-9D0A-4AB4-B371-17925EAE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344C-DCCC-4A04-9B72-3DE602E1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C68E-F396-431F-AC2A-2A4E5F22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383A-5B85-42EC-A674-BA7C5039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BEAE-83B1-45A9-8F09-67B828A9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8C01-91BB-4153-B51F-E7304951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C487C0-DEF4-447C-81A4-EBCCB6F1AB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