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54981"/>
        <c:axId val="8532582"/>
      </c:barChart>
      <c:catAx>
        <c:axId val="14954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2582"/>
        <c:crosses val="autoZero"/>
        <c:auto val="1"/>
        <c:lblAlgn val="ctr"/>
        <c:lblOffset val="100"/>
        <c:noMultiLvlLbl val="0"/>
      </c:catAx>
      <c:valAx>
        <c:axId val="8532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54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234-B8C5-43F8-84EE-E115665D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2A7-88C6-4938-BD01-9162AC4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173-38BD-4FFA-94F7-5817663A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FD2-5561-4512-83F3-F39A919D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116-B9E9-42AF-AA7C-E7D67737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C36-8980-4E15-8E43-F2E70E36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422-4453-48CC-AD9E-4E2672E4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B5E-1FCE-44BA-ADAD-64F98D54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DEE-A5F2-4051-8E29-BF7DE1BF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4EC-EFF3-4379-99BD-6449B0A5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CDB-D68C-46BA-BC7C-9EA1F6CD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F36-D7A8-4B0B-B673-BEB88A78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68144-F00F-48A2-96F4-DE92574241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