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4552"/>
        <c:axId val="76808531"/>
      </c:barChart>
      <c:catAx>
        <c:axId val="4034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08531"/>
        <c:crosses val="autoZero"/>
        <c:auto val="1"/>
        <c:lblAlgn val="ctr"/>
        <c:lblOffset val="100"/>
        <c:noMultiLvlLbl val="0"/>
      </c:catAx>
      <c:valAx>
        <c:axId val="76808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4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8D5-3CB0-4916-960C-8B3FD8F8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357-BD91-47FD-87B0-2A80F33F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A14-2116-4E83-992C-FF0AB13A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64C-7633-4AB8-A160-0F1002CF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5BA-844A-40F8-8486-D50307B5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072-6C1D-417A-A0FF-88610E8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AAA-33AC-4A35-823A-6619E85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023-13B2-4706-8450-BD4FFD7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745-C299-4346-9BB4-6A41232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3BB-8188-47F2-8F40-09B7A77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E71-6D6F-44C6-B209-148F869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50F-4FC6-4983-92A4-1FAE808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1409-18A7-46C2-B89B-BB65F0E068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