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672214"/>
        <c:axId val="74902071"/>
      </c:barChart>
      <c:catAx>
        <c:axId val="606722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902071"/>
        <c:crosses val="autoZero"/>
        <c:auto val="1"/>
        <c:lblAlgn val="ctr"/>
        <c:lblOffset val="100"/>
        <c:noMultiLvlLbl val="0"/>
      </c:catAx>
      <c:valAx>
        <c:axId val="749020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6722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5823-FE74-4C3A-ACFF-7EDA2007C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2517-3B71-48FD-BB00-20EC84261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C827-75EE-4D7E-9661-859634397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3B61-0E78-4D7C-AD06-7C291BFCD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879A-593F-48AD-9BED-8F70E9BA5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8740-DB32-41E7-AC55-4A4C9F37C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26F3-6A03-4AA9-81E1-06B0E0B0B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1338-F6A9-40D2-B06B-53AB1EA3C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8524-6D49-4499-96B3-5DD723AEC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9859-41CC-4DB9-9352-795C72FCD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6FA1-337D-4D15-914B-9B5A07939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4146-0CF4-4004-A6C9-D99ABECF1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DDB30D-ECB3-426A-97BA-41C69E3932B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