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032353"/>
        <c:axId val="48140196"/>
      </c:barChart>
      <c:catAx>
        <c:axId val="120323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140196"/>
        <c:crosses val="autoZero"/>
        <c:auto val="1"/>
        <c:lblAlgn val="ctr"/>
        <c:lblOffset val="100"/>
        <c:noMultiLvlLbl val="0"/>
      </c:catAx>
      <c:valAx>
        <c:axId val="481401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0323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4146-5EAE-4B2A-A56A-2813B7A30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8D28-6B44-439D-9FAB-638ECA36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92A1-6CA5-475C-8CA0-36343CEF6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3D82-CD6E-4B4C-A53B-AD443C2D3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E2E1-7802-4941-86C1-E6F05CFA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247C-F090-4413-8FD5-4C4FE964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4D5A-C632-4D9E-88AC-EEC950BE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5642-1FAF-4DB1-A454-28BD7484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6164-592E-4A92-A3F8-E213EB79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B6E2-5191-4FF6-94DC-681164B2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6A3D-6304-4656-828E-C2290B57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8776-6563-44A5-B518-730F788F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431B7B-A715-453F-B69F-0E111A690B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