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23168"/>
        <c:axId val="74042458"/>
      </c:barChart>
      <c:catAx>
        <c:axId val="29223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42458"/>
        <c:crosses val="autoZero"/>
        <c:auto val="1"/>
        <c:lblAlgn val="ctr"/>
        <c:lblOffset val="100"/>
        <c:noMultiLvlLbl val="0"/>
      </c:catAx>
      <c:valAx>
        <c:axId val="74042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23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4CC-D4FA-4B7A-9068-C15D5254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292-DA94-4CC2-A1F9-AB431F1A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C3C-B665-4123-B972-A802221C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D34-B2A7-4F6F-B7F1-CFBFFFDB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F05-DDEA-40A7-8D51-AE594E71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AB6-54D6-42A9-B3B5-5F3BA6D8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263-7C0F-4B23-B8C8-7221A0EC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CF6-785F-4AEC-AD2F-B1A2A62C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8BA-0339-45E3-BB63-59AD1778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563-0AB9-4D8A-827E-537D5A5F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263-D41B-46E2-9C5E-32899F87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004-66F3-4F9B-AA00-53F7B361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D14B0-FFF1-4B35-8383-82D34AB629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