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92140"/>
        <c:axId val="52630535"/>
      </c:barChart>
      <c:catAx>
        <c:axId val="57892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30535"/>
        <c:crosses val="autoZero"/>
        <c:auto val="1"/>
        <c:lblAlgn val="ctr"/>
        <c:lblOffset val="100"/>
        <c:noMultiLvlLbl val="0"/>
      </c:catAx>
      <c:valAx>
        <c:axId val="52630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92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C30-A470-49DC-9748-637D85A5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631-909D-4B96-AC27-C9B91A8F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377-1514-4209-B392-EA05DF53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35F-7D6A-43CD-A442-C1852F04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1EC-1007-4145-B2FE-91D44D09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268-4AF5-4D42-B824-871DD0E5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095-4583-4FCB-8710-08BE36CB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18F-A993-48A5-9A69-7C69B5AB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C07-3D71-4128-B35C-EDBD122B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BE2-964B-4EA2-8BAE-FBA69ACE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814-DE3B-4C86-8A34-71A701F3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D07-9654-4CA1-A7D3-FA6F9BD4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D9C82-EAB6-4A08-9054-CF2165607A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