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23649"/>
        <c:axId val="67041740"/>
      </c:barChart>
      <c:catAx>
        <c:axId val="13923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1740"/>
        <c:crosses val="autoZero"/>
        <c:auto val="1"/>
        <c:lblAlgn val="ctr"/>
        <c:lblOffset val="100"/>
        <c:noMultiLvlLbl val="0"/>
      </c:catAx>
      <c:valAx>
        <c:axId val="67041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3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9D7-7346-4D65-91F1-DA779E3E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7D3-BFA2-4480-B2CA-3B91512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7C6-2911-4BA0-81C8-8982B8B5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24B-B18E-44ED-ADA7-ED311CB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2E4-4CEC-4329-AB4D-A5E0A9F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FAD-4B74-4992-A814-70F83F7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D57-7BCD-4DE5-914B-AE66E65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C9C-19FB-4894-A20E-0DDA0378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858-1546-41A7-8628-C66ACDE8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14D-3851-4E85-BC26-242EF145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E16-F1A5-4215-809E-7323D7F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38D-93CE-4353-9D99-7617070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F66EC-69DD-4ED1-A096-A0E4B2A9B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