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60799"/>
        <c:axId val="98597848"/>
      </c:barChart>
      <c:catAx>
        <c:axId val="65860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97848"/>
        <c:crosses val="autoZero"/>
        <c:auto val="1"/>
        <c:lblAlgn val="ctr"/>
        <c:lblOffset val="100"/>
        <c:noMultiLvlLbl val="0"/>
      </c:catAx>
      <c:valAx>
        <c:axId val="98597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60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798-F6DC-4981-B640-1BB4844E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371-ADC2-4169-9EA7-4814292B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A73-B545-419C-8E0D-94DAC3D9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739-DF63-4BDD-94FF-88B31E2C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A77-1131-4908-AD6D-09503EDA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404-8578-43F1-BAD8-FDD5CF01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C20-79DE-4CBA-9B65-A708E5C2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469-C406-4D00-AF96-1E585CB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FCA-2CA8-4321-A7CA-8D37239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1B1-44D5-4DE3-97BA-67E3760B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E32-3E5A-42C2-8127-BA90BBF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58E-B4FE-413A-A8B9-AE5BAE0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37A1D-21FB-4A83-BD1B-FC92065351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