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62032"/>
        <c:axId val="29568464"/>
      </c:barChart>
      <c:catAx>
        <c:axId val="34662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68464"/>
        <c:crosses val="autoZero"/>
        <c:auto val="1"/>
        <c:lblAlgn val="ctr"/>
        <c:lblOffset val="100"/>
        <c:noMultiLvlLbl val="0"/>
      </c:catAx>
      <c:valAx>
        <c:axId val="29568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62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EBB-6186-44C5-A77B-F1BF7ACC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6FE-121D-44BA-9072-0044AE1D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5B7-0298-4B40-ABE8-2A749D80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202-CFC6-41B5-8BE7-AA8A683A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1B1-EE89-4CB6-A7E5-024B7D6C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C4B-025D-4BD3-A400-291A31E9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C0F-7389-429C-8F4F-F5A5AD37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21E-8EA3-438F-B81D-95D7D4F1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0AA-7C9C-4334-B591-84493784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3AF-C430-4575-869D-4748F42C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BEE-5B7B-40B7-8432-A994F7CA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65B-5C34-42A2-8E37-F19490D2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1DC21-5AC2-454F-997A-6B51638060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