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65663"/>
        <c:axId val="38747388"/>
      </c:barChart>
      <c:catAx>
        <c:axId val="831656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47388"/>
        <c:crosses val="autoZero"/>
        <c:auto val="1"/>
        <c:lblAlgn val="ctr"/>
        <c:lblOffset val="100"/>
        <c:noMultiLvlLbl val="0"/>
      </c:catAx>
      <c:valAx>
        <c:axId val="38747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656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1B2-388A-4091-BE26-ED7D2CBC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7A4-99B9-4728-B92D-3FF64A74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992-E056-4784-A7C7-9B97A11F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DA9-EE29-443A-AE64-78F7535D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FBA-3B49-47ED-BA5B-341DA8F5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1B5D-8ABA-4BA4-A62A-ED194C9C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D7B-E3AD-4AC1-AC2A-9BC9327B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83A-7996-4526-9185-CB7774F0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C97-C5C0-495E-88C2-FB50EC39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76B-4EE5-4C42-ACC0-A0E19002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7A3-78AC-4C01-974A-9139D58A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93E7-3516-454B-9A24-D513C05E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94F3E-DD86-4C6E-84BF-FD160D0852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