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63898"/>
        <c:axId val="67798522"/>
      </c:barChart>
      <c:catAx>
        <c:axId val="46063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98522"/>
        <c:crosses val="autoZero"/>
        <c:auto val="1"/>
        <c:lblAlgn val="ctr"/>
        <c:lblOffset val="100"/>
        <c:noMultiLvlLbl val="0"/>
      </c:catAx>
      <c:valAx>
        <c:axId val="67798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63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3FC-390F-4BD3-998D-D817B18B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5B3-0BC9-4853-8015-39826B4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541-F800-4373-84A4-72545D3E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FCE-66B0-42BB-9346-857836C9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B57-CEB5-4BEF-B250-76301C4D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1F6-B292-4A12-83A8-117AB431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507-850A-4A25-83CA-BA2E701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5D7-511F-4ABD-AB8B-3A082564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C91-0D40-46BB-8A05-F247C56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354-BEF2-4D63-A07A-D873E647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ED6-58A4-43A0-B9C4-C79963F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D64-DFE2-4A99-9666-C710F77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B946-721E-4074-B6AF-C932AA6562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