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9148853"/>
        <c:axId val="43821812"/>
      </c:barChart>
      <c:catAx>
        <c:axId val="79148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21812"/>
        <c:crosses val="autoZero"/>
        <c:auto val="1"/>
        <c:lblAlgn val="ctr"/>
        <c:lblOffset val="100"/>
        <c:noMultiLvlLbl val="0"/>
      </c:catAx>
      <c:valAx>
        <c:axId val="438218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48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0E33-096E-459C-8149-C5F6AEF74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E20E-D0BF-4098-A232-D86E0E4D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B003-BF5F-40C4-9284-4E171197B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BC30-C6E9-4A45-AD35-65883C449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08A8-86CF-4CDC-B9E5-3A5AFFD5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D3CF-AF27-4137-8B20-51DC7A31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4ECD-1ABE-4CD6-BBC0-5409FDE3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AB4B-C303-4A24-BB00-D4271C08E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1087-8305-46AC-9CD5-A2CF08B9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9DEF-3502-404B-BA09-0A736820F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81EA-FA47-45DE-8692-3D18D96A3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B064E-10A2-49AC-BD30-FE06655A2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F30F9-5A0D-4FF6-9261-BFDDE0DC65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