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58966"/>
        <c:axId val="22037563"/>
      </c:barChart>
      <c:catAx>
        <c:axId val="33958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37563"/>
        <c:crosses val="autoZero"/>
        <c:auto val="1"/>
        <c:lblAlgn val="ctr"/>
        <c:lblOffset val="100"/>
        <c:noMultiLvlLbl val="0"/>
      </c:catAx>
      <c:valAx>
        <c:axId val="22037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58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2A9-1599-462D-AA8C-6D00118E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40D-2C5C-45EE-B9EA-ECF4EA79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EF7-4576-4253-AC83-AEFB5B69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82F-5903-4EB9-89FA-1870E0A1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FD3-E65F-4983-9A73-4C24B3E0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B5E-8800-4318-A471-A2B10C9B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F2E-79AB-42C1-8FD0-0310F307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16F-C971-4F90-B1B6-789250E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D0C-057E-4152-9AD9-984D6D08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C68-A149-4C06-B115-C892BAC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C5D-4162-4E48-B4EE-00B3478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155-1DCB-4A1F-817D-DA5D31DE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51315-1C49-436B-BDC4-70AE3193CB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