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39512"/>
        <c:axId val="28780361"/>
      </c:barChart>
      <c:catAx>
        <c:axId val="610395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80361"/>
        <c:crosses val="autoZero"/>
        <c:auto val="1"/>
        <c:lblAlgn val="ctr"/>
        <c:lblOffset val="100"/>
        <c:noMultiLvlLbl val="0"/>
      </c:catAx>
      <c:valAx>
        <c:axId val="28780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395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491E-F36B-4A5D-81B0-0BF87F2C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754C-12CB-4C94-9CE2-3BA70918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618-8B90-42AF-B470-E25613B2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A728-3EE5-4E0B-AE11-FDAB9733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632-C2D7-4AA1-9F09-DA386F16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698-5291-492B-95B2-AFEFE3AF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7B2-4432-49F8-AEF1-01717E37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79E-5B4E-48B2-A89C-766C96F9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DB5-63E0-41C5-BC0F-E35EC832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F91-7FD2-45C4-9534-6B68D68C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DC3-1B05-4739-934C-B65A13AE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3E83-0CA9-4057-8B3E-A64F6A09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37431-82A6-4FA9-8345-1BA0DAC682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