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905"/>
        <c:axId val="85069993"/>
      </c:barChart>
      <c:catAx>
        <c:axId val="556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9993"/>
        <c:crosses val="autoZero"/>
        <c:auto val="1"/>
        <c:lblAlgn val="ctr"/>
        <c:lblOffset val="100"/>
        <c:noMultiLvlLbl val="0"/>
      </c:catAx>
      <c:valAx>
        <c:axId val="85069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76F-BE77-49E6-9934-2FA0F000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A33-6692-4216-AD60-2B8A57AD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5A3-A662-45E6-8317-59344C6E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620-BD2A-4F45-A971-5185E8CB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C9C-9315-46E4-81E2-A49957C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1C8-2B50-4974-98FD-5A9FEC37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62C-4B55-4D7E-9A4B-ED85184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847-24E7-4E93-88D6-EB6D812B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F7D-F9E2-4B01-AD26-78ABB91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6B1-90FF-44A6-BD5E-E08965E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017-5A5F-468A-9887-197B249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223-8B7F-4708-8FC9-71682314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9BAFE-A8D0-4086-A913-DEA87141C8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