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51917"/>
        <c:axId val="98318294"/>
      </c:barChart>
      <c:catAx>
        <c:axId val="95951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8294"/>
        <c:crosses val="autoZero"/>
        <c:auto val="1"/>
        <c:lblAlgn val="ctr"/>
        <c:lblOffset val="100"/>
        <c:noMultiLvlLbl val="0"/>
      </c:catAx>
      <c:valAx>
        <c:axId val="98318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1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4A9-A284-40A2-B120-A287B5A0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20F-2182-4320-B403-FDB0320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342-7758-429E-954B-F0A517C9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644-4C98-43D1-906D-BAA62494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997-722F-4BEF-B4EF-86C6693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6F9-C1CD-4A47-9AA9-F713DC1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42B-409E-4BF8-ACF0-DF4041F7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817-DFB3-4824-AF44-369113C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35C-13E5-45EA-B1B5-495D0634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08A-F41A-42E3-AD55-49827A1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0B6-6965-46A0-887D-A988903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9BE-7DCA-4B29-B739-0DD3506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8BC8-88C3-4241-980D-A04046141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