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4676"/>
        <c:axId val="15157642"/>
      </c:barChart>
      <c:catAx>
        <c:axId val="72546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57642"/>
        <c:crosses val="autoZero"/>
        <c:auto val="1"/>
        <c:lblAlgn val="ctr"/>
        <c:lblOffset val="100"/>
        <c:noMultiLvlLbl val="0"/>
      </c:catAx>
      <c:valAx>
        <c:axId val="15157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46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53F-0091-437A-B058-3ACD5231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E4D-7F83-4023-962F-F690FB97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E14-73F5-4D8E-8E98-E67352AF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BEB-DEC9-4F5D-BCB7-B06C869F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DA9-ED4C-4988-8324-5B2D79E3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3B0-81CC-4842-8E52-E09F3060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2D9-AA69-4442-875B-B3C9A7D6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37F2-D88C-443E-AFC5-7ADCDE58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029-A75D-4592-AFD4-1FF4577D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A6C-5197-4E72-A8A0-3A4A1990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69F-93A5-48C3-A82B-77E20731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230-09DA-4EDA-96C7-009A755C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5FD35-B24A-4580-A0FA-79E12EF877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