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22063"/>
        <c:axId val="24013885"/>
      </c:barChart>
      <c:catAx>
        <c:axId val="84822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13885"/>
        <c:crosses val="autoZero"/>
        <c:auto val="1"/>
        <c:lblAlgn val="ctr"/>
        <c:lblOffset val="100"/>
        <c:noMultiLvlLbl val="0"/>
      </c:catAx>
      <c:valAx>
        <c:axId val="24013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22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D96-D54B-449E-BFBF-06A1CF00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872-3979-4D42-ADDC-B6780443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809-838C-469C-909F-9F27216D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C4B-5600-4195-8B79-578D945E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3CC-DD03-4D82-88E7-A1BBABB1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298-7976-47C3-AC99-13B5B99C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3F1-0373-4899-BD62-DFF2186C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563-0A52-4288-B053-8E46A7F2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6D6-BD23-46F2-85BC-51D22A3F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78A-7143-486B-B8E0-6BFC7D26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B77-7B82-4EEC-985B-D8F16C6B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821-2E5E-4908-9F9A-42F65C19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F551F-421A-4D52-958D-DFE2BC1E97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