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790268"/>
        <c:axId val="74265472"/>
      </c:barChart>
      <c:catAx>
        <c:axId val="857902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265472"/>
        <c:crosses val="autoZero"/>
        <c:auto val="1"/>
        <c:lblAlgn val="ctr"/>
        <c:lblOffset val="100"/>
        <c:noMultiLvlLbl val="0"/>
      </c:catAx>
      <c:valAx>
        <c:axId val="742654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7902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3A7B-1B88-4A80-B530-640063A4D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A956-418F-4D4F-ABE0-6863182EB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BA5F-6E86-4789-A15A-934AF0F33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B8E4-667B-4A23-B7B4-D747064C6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A72B-731D-4CE6-B89F-33DD48E5B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D9A8-049F-49DA-806B-6AD530BD1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C10C-D12E-476C-B010-5C5BCAB93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4F0C-B321-4E3B-94AD-1D6404D0C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4CD5-E416-4301-A506-C8516B9F5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EF48-5882-41E7-B6AE-1CC7C505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AC0A-DBEE-4C8E-BE99-ADD803CF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C5C0-73F8-49F5-A98F-81BCBE0C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CD50AB-9BBD-48CF-A405-9339EF3059D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