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37588"/>
        <c:axId val="49898397"/>
      </c:barChart>
      <c:catAx>
        <c:axId val="28137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98397"/>
        <c:crosses val="autoZero"/>
        <c:auto val="1"/>
        <c:lblAlgn val="ctr"/>
        <c:lblOffset val="100"/>
        <c:noMultiLvlLbl val="0"/>
      </c:catAx>
      <c:valAx>
        <c:axId val="49898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37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781-5C99-4101-8B02-F35922CE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E28-315D-4C59-98E5-25F17C02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74D-09CF-41B9-98C6-B3EC7608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8A6-8D09-48CF-99F2-58EF4AAD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AFF-F378-4C7C-9384-630CF927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844-8C98-47F5-9FF4-DDD55148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DD0-560D-48AB-AEE8-BF69E38B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BAE-2509-4461-B0D3-65DCC3CC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F29-1727-42CD-873F-A525405D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E55-D8AB-4D83-9E4A-29A1108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D6C-031E-4C10-831A-3E7F88CD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C2A-F50C-4AA3-8C37-79E5CDD5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AC98E-6812-44B7-A843-DCA33ECF02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