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13282"/>
        <c:axId val="94172651"/>
      </c:barChart>
      <c:catAx>
        <c:axId val="62132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172651"/>
        <c:crosses val="autoZero"/>
        <c:auto val="1"/>
        <c:lblAlgn val="ctr"/>
        <c:lblOffset val="100"/>
        <c:noMultiLvlLbl val="0"/>
      </c:catAx>
      <c:valAx>
        <c:axId val="941726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132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2F30-78F2-46FF-9A28-DAC307ED9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0F0B-1AC4-4993-A31A-14D626A1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FF8D-6664-43D1-9756-8F5F4374F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08D2-12F1-45A0-A250-C4C5AC366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7DD4-53BD-43D1-911A-7FD7E9D6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D025-DD7F-42D9-A087-235A77DA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5E15-6EFB-4D76-9352-CC83CFF3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8188-33C9-424C-82A9-56AF011B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2DE3-23B3-4237-83F4-5E20C362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A230-D2D6-425C-B438-32D1718F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DFCA-01C7-4434-9B06-7598E0FA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A24E-9606-44A0-BC1A-01BC96A6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B045C6-B03C-4A36-AE38-37281767C8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