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981325"/>
        <c:axId val="98941900"/>
      </c:barChart>
      <c:catAx>
        <c:axId val="139813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41900"/>
        <c:crosses val="autoZero"/>
        <c:auto val="1"/>
        <c:lblAlgn val="ctr"/>
        <c:lblOffset val="100"/>
        <c:noMultiLvlLbl val="0"/>
      </c:catAx>
      <c:valAx>
        <c:axId val="989419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813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5C63-540C-4CA3-B553-BED5CE07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282E-00A3-4163-8E03-8C8279B0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BC06-9884-490C-944B-BD3E2BAE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8739-644E-478C-A742-5364F8E0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1D6-9042-4413-B4DF-6DF3BB22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A77C-C8CD-401A-B52C-B836DEC9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D5EF-F93D-4DEA-AC2A-51781912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11B3-DA40-4E3D-8986-69D65A43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1260-738C-46A7-AE0F-E06895BF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1EC5-0805-4645-A4A0-E8EE06ED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74EA-1E0F-42BD-B089-AB306653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7A6A-079C-4132-9489-A15D9CD5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5A130-B625-4EBD-9702-D922551C74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