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65373"/>
        <c:axId val="64806738"/>
      </c:barChart>
      <c:catAx>
        <c:axId val="95765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06738"/>
        <c:crosses val="autoZero"/>
        <c:auto val="1"/>
        <c:lblAlgn val="ctr"/>
        <c:lblOffset val="100"/>
        <c:noMultiLvlLbl val="0"/>
      </c:catAx>
      <c:valAx>
        <c:axId val="64806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65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A31-64F6-45F6-9FBB-22E2C049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71E-868A-477D-AF12-12E7933E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10B5-1822-42CA-8D23-C759F6CD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0CF2-74CA-41B3-80E4-104D6EFF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595-1603-4BF5-AD90-FA8C0975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156-AE1F-45D1-BA7B-6815D891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336-27E6-47F9-A3AB-949E665A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4A3-AF39-4AC7-AC48-1CCDB44D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813-D96A-4918-93E6-E6E1ADAE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299-5524-4803-B0E9-A048A702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BEA-F024-4CB5-AAC6-CD339781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175-2B3B-48B7-A75B-032DF925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D3018-71D5-48A3-B4CF-4A0C22EAA1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