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40615"/>
        <c:axId val="4978072"/>
      </c:barChart>
      <c:catAx>
        <c:axId val="3844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072"/>
        <c:crosses val="autoZero"/>
        <c:auto val="1"/>
        <c:lblAlgn val="ctr"/>
        <c:lblOffset val="100"/>
        <c:noMultiLvlLbl val="0"/>
      </c:catAx>
      <c:valAx>
        <c:axId val="4978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22B-DEE6-47EA-B9E1-BBD317F6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D9E-6C44-4BC4-90EC-94A5E40A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455-D6D5-40D1-BAAA-CB03578E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1C8-A730-4268-B888-9F4C8FA2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CA9-6D20-4169-A702-0AD92B5C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6CF-54CD-458C-AE80-8A1F1D6D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87C-59B4-49A6-AAE7-FD62ECC2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654-3008-4145-AEC4-CD71C102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039-6F06-442B-A506-063D173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AAA-F166-467B-A4A8-70989D7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348-E41C-4AB4-88C0-9D08623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FE6-5D6A-4866-BF7B-CA1FC5F8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D654B-A7BC-4E67-868D-6B85FC1F4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