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37132"/>
        <c:axId val="88150023"/>
      </c:barChart>
      <c:catAx>
        <c:axId val="86937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50023"/>
        <c:crosses val="autoZero"/>
        <c:auto val="1"/>
        <c:lblAlgn val="ctr"/>
        <c:lblOffset val="100"/>
        <c:noMultiLvlLbl val="0"/>
      </c:catAx>
      <c:valAx>
        <c:axId val="88150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37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911F-F444-42A9-AAF7-2E9BBC00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1B1-1AE2-484E-97E0-5D7441BD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7F78-9DA6-40A6-8759-51BEE362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97E-01C4-4DD1-95CD-9278990F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CA16-00E0-4285-B0DA-382C35E0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FFE-EE57-4C3A-9DD4-31C6108B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BED1-A429-4E66-BD6E-B44178D2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277-FFAD-474B-8F65-7E2ADE1B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756-6D7B-4CD5-817B-6ACD763E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777C-D01A-4352-A95F-3BA01179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870-9348-4F78-8FC4-E3089C7F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6EAA-CC86-437D-BCB2-5B241B7D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6B7D5-6E44-464C-AB10-EB742D8E67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