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051837"/>
        <c:axId val="99105623"/>
      </c:barChart>
      <c:catAx>
        <c:axId val="770518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105623"/>
        <c:crosses val="autoZero"/>
        <c:auto val="1"/>
        <c:lblAlgn val="ctr"/>
        <c:lblOffset val="100"/>
        <c:noMultiLvlLbl val="0"/>
      </c:catAx>
      <c:valAx>
        <c:axId val="991056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518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DE34-A15F-4B4A-8843-8AB96D6B7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B673-BFCC-40E8-8339-6659DA09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4757-FE6F-42E7-B819-C02A27B2D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936B-0CB2-4BCA-8CBE-EB3A3303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E8C0-3A63-40EB-A05F-790693C7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14FF-5A60-4A39-BAF2-8C532B3C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5FCB-242A-4385-AF09-D5CB557D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92E9-C99C-45E9-9C3A-2B7C1BFA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44C6-83D9-4D9A-88C4-555620AC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8AAD-5785-4A95-9251-1F5A84A7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79B2-B9D2-4B47-9A2F-D211D388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373E-C408-40B1-9B6A-7DCAC137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F7E5E-DF3E-4F2D-83A8-9A708F8440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