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05589"/>
        <c:axId val="66836193"/>
      </c:barChart>
      <c:catAx>
        <c:axId val="53605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36193"/>
        <c:crosses val="autoZero"/>
        <c:auto val="1"/>
        <c:lblAlgn val="ctr"/>
        <c:lblOffset val="100"/>
        <c:noMultiLvlLbl val="0"/>
      </c:catAx>
      <c:valAx>
        <c:axId val="66836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05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214-58E9-48E2-92B6-4D9F2DA2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51E-5CB2-43F7-8427-2B9B7277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683-A198-48DB-84C0-E0F38E67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BD3-E385-45BC-84AC-72959D7E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738-1581-4D36-97FA-05581403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BD9-3A92-4E3F-B3AE-30061744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54A-898E-4495-BC7D-30E5BB96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6DC-F31E-4EC7-8FE9-F641F76E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B84-1469-4C58-8913-CF68DB8E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761-F0E4-4796-BA7E-59F40B09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CB0-B7D7-41F5-9A56-DC8AF1E7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61D-6174-4E95-90A2-779571E4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F440A-2E9D-4113-B52F-A19722375F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