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30881"/>
        <c:axId val="59007923"/>
      </c:barChart>
      <c:catAx>
        <c:axId val="44830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07923"/>
        <c:crosses val="autoZero"/>
        <c:auto val="1"/>
        <c:lblAlgn val="ctr"/>
        <c:lblOffset val="100"/>
        <c:noMultiLvlLbl val="0"/>
      </c:catAx>
      <c:valAx>
        <c:axId val="59007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30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A8D-3B20-41D2-A98C-C7EB068F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A4A-6116-458B-805C-9552B6DA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2E7-3E1E-461D-87FE-A5B0F0C1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A63-4022-4FD9-A3D0-2D2F1F06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43D-6D84-461F-ACC9-2908A05D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9F7-364C-49B3-9E05-1EB2EBC7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1BF-1D64-44DB-9986-8CE34926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D15-AA22-4982-8831-E3F1836A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871-1BC0-486C-A45B-1645B25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3D2-67DF-4D58-AEFB-8CDD943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4B6-E8AC-4887-8765-3C45178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A9B-9BF1-479D-BFC4-1F7BD86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79DD2-B0B9-4506-8CB3-CA66843E5E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