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43516"/>
        <c:axId val="68130325"/>
      </c:barChart>
      <c:catAx>
        <c:axId val="61243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30325"/>
        <c:crosses val="autoZero"/>
        <c:auto val="1"/>
        <c:lblAlgn val="ctr"/>
        <c:lblOffset val="100"/>
        <c:noMultiLvlLbl val="0"/>
      </c:catAx>
      <c:valAx>
        <c:axId val="68130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3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B13-8192-4755-861F-3C488A1F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35F-A78A-43A3-9421-B00F6300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3BD-BF08-469B-BF10-EF62AD55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CBF-485C-4850-808A-4265C732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FB0-8CE1-43CE-9D5B-5DE5C22D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474-7C43-45D1-9EA2-62728BB1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374-80F8-45EE-99B2-D9CCB5D6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935-F108-4F05-A427-1C9F5435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13D-8E71-41B3-B4DF-57F4521F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29F-79C7-43B5-B4AC-E637DD68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2D7-0758-4662-9580-158FF258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5F2-8AE0-4D2D-8942-EE3A7847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F95C0-2490-4A9D-B099-282C2DEEEF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