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6235734"/>
        <c:axId val="4924720"/>
      </c:barChart>
      <c:catAx>
        <c:axId val="1623573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24720"/>
        <c:crosses val="autoZero"/>
        <c:auto val="1"/>
        <c:lblAlgn val="ctr"/>
        <c:lblOffset val="100"/>
        <c:noMultiLvlLbl val="0"/>
      </c:catAx>
      <c:valAx>
        <c:axId val="492472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23573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73A5-3F07-46E3-9626-8C158BB6B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16CA-1CDE-4AE8-9822-2F6868AB2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8FDF-B396-403A-BF37-D965BE65F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08FF-3A10-4DCB-8FB1-C23DD2E7C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C63D-7B8A-4327-BD20-E3D5AD195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0A68-F5AE-44BB-927A-2063B559D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1700-3B4C-422F-8424-F4F6FB7D0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BFBA-A86D-4329-B38A-E8FFDB069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0580-D13F-42E2-A652-14618AA2A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57A8-CD03-495F-A54D-C0E0F7611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C795-4910-4670-BC6A-0918E6A0F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9039-1FFD-4A95-9407-EDEAD86DA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3CF0BB-6CFE-4643-B163-73AB6C9E9CB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