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563653"/>
        <c:axId val="53491692"/>
      </c:barChart>
      <c:catAx>
        <c:axId val="555636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491692"/>
        <c:crosses val="autoZero"/>
        <c:auto val="1"/>
        <c:lblAlgn val="ctr"/>
        <c:lblOffset val="100"/>
        <c:noMultiLvlLbl val="0"/>
      </c:catAx>
      <c:valAx>
        <c:axId val="534916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5636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FF7F-E560-4C54-AA65-1D4E195A0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8A4F-DE87-479A-BEFA-5058A3F2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5338-ADCA-4E41-8307-03F82FAA9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3720-4C59-4E07-97BE-184C833FE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4A4A-652E-4012-A720-B653898B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EF76-13B5-4FC0-B453-DF322F0F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89FE-9294-4D3B-A97C-EF84C3E5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3080-5A5A-4779-8998-FEEF35C7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9BD7-DF95-4B0F-B703-B22D3390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2157-BEC5-41CD-9206-8C9E1113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F3E3-E101-4CDA-9330-A19F0C4B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ED2B-BD69-4D2E-B96A-F016BA13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BA305F-5273-45C2-8C60-42E282115C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