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32857"/>
        <c:axId val="9816028"/>
      </c:barChart>
      <c:catAx>
        <c:axId val="17932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028"/>
        <c:crosses val="autoZero"/>
        <c:auto val="1"/>
        <c:lblAlgn val="ctr"/>
        <c:lblOffset val="100"/>
        <c:noMultiLvlLbl val="0"/>
      </c:catAx>
      <c:valAx>
        <c:axId val="9816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32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B57-08BE-4A6E-868A-04733BC4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B29-52F3-4DFE-8DE8-92952D31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3E3-4BFE-4545-B0BA-9F6686F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100-C84E-4B00-B06D-180FD16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3FC-CC67-4DF3-B982-56E7F5A7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24E-60AF-4F70-A2F5-2396F4ED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BE3-EF1D-4CF2-A87C-3EFC3CF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500-C5C3-4649-8896-A3C91BD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19B-8A2F-4B94-8AF2-C0E5A28C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B82-34A4-4A0F-9F5A-4B81BCB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E5F-78DF-4135-A106-D99A843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2C0-EEC5-4834-8738-6E949DF2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92B8-042C-4FB2-A5A7-D7CD8E6E5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