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17683"/>
        <c:axId val="36163415"/>
      </c:barChart>
      <c:catAx>
        <c:axId val="68717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63415"/>
        <c:crosses val="autoZero"/>
        <c:auto val="1"/>
        <c:lblAlgn val="ctr"/>
        <c:lblOffset val="100"/>
        <c:noMultiLvlLbl val="0"/>
      </c:catAx>
      <c:valAx>
        <c:axId val="36163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17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62C7-5126-46E3-B3EF-021E02DC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5D5-684C-4398-81DC-B951CCD8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2E8-5CDB-47CB-A7D8-6BE807EC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BC1-D6A0-4E7D-9EF5-6D9CB35E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525-B64A-486C-AD19-B1E21E6E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613-0AAD-441C-B481-F649F4F5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C59-B1CF-4818-843A-56B99E3E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151-8DAE-4888-AE72-A4528C7B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E0B-8308-4833-AA57-39793392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73E-C921-434B-A612-8487C901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844-FAB3-4031-8FD8-3D24ED8F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CBB-DBA9-4C2F-AD4C-046309AA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3174B-31E4-4CAC-94AA-172408C881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