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9839514"/>
        <c:axId val="3455667"/>
      </c:barChart>
      <c:catAx>
        <c:axId val="1983951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55667"/>
        <c:crosses val="autoZero"/>
        <c:auto val="1"/>
        <c:lblAlgn val="ctr"/>
        <c:lblOffset val="100"/>
        <c:noMultiLvlLbl val="0"/>
      </c:catAx>
      <c:valAx>
        <c:axId val="345566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83951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E423-A4FA-4E86-8740-330C11F96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FB8A-305E-4F56-A81B-F084A9ED0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A2E0-5D29-48DA-9FBD-A8C558B54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70C5-41CC-43D2-A1B1-50386367E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022A-A2B9-4849-9A11-77D385CBF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589E-7503-4A0C-865E-A73850ACA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A865-C5C9-488D-9A36-234050236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070D-876B-4174-BDF7-85532652D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0557-47C2-470B-82C1-5EDB5FE6F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82DB-198A-4639-8E35-BC9EAB447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D9E1-B8B0-44AE-99E6-F2104B9EC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68C3-BEE1-4FED-819B-D38353DD6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1C6D72-06F9-4BBE-BE1E-FF0976A503C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