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1278"/>
        <c:axId val="36579289"/>
      </c:barChart>
      <c:catAx>
        <c:axId val="6111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79289"/>
        <c:crosses val="autoZero"/>
        <c:auto val="1"/>
        <c:lblAlgn val="ctr"/>
        <c:lblOffset val="100"/>
        <c:noMultiLvlLbl val="0"/>
      </c:catAx>
      <c:valAx>
        <c:axId val="36579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1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5201-C020-45AC-A687-5C68C5F0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FBD9-E201-4EF5-85A5-54500DE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7DB6-9CB7-4527-8D91-3280A9F9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F39-1A50-4FB7-AC4E-F483F116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026-472A-4D3D-AB62-EC4B1C18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A8A-F7F9-4F71-888C-845C8E5A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025-55A3-4A45-BD42-B40E054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312-2900-49AB-BF54-E61828B4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633-34A1-48F3-BE6A-6B149E36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7BAF-52DE-42B3-A81D-76C9DDFF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CC4-4C44-44EA-8D57-3D654C02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F7D-3C6C-4206-94CB-ACF814D1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4599B-18EB-4529-A461-520DF14615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