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2996230"/>
        <c:axId val="92852469"/>
      </c:barChart>
      <c:catAx>
        <c:axId val="5299623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852469"/>
        <c:crosses val="autoZero"/>
        <c:auto val="1"/>
        <c:lblAlgn val="ctr"/>
        <c:lblOffset val="100"/>
        <c:noMultiLvlLbl val="0"/>
      </c:catAx>
      <c:valAx>
        <c:axId val="9285246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99623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649D3-F08C-4136-8884-4660B6FFC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BC4AC-53C1-4693-8714-37C28F24C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01008-33ED-41A2-8DFE-62E8EDFF0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376EC-730E-4D77-8605-F5F8852DB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B9F5A-C5C4-47A5-BF42-369A23B08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A15C3-E8E4-4BBD-A278-C20CD2DF6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0EE64-253B-472C-B1ED-7C559F896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D67C2-4847-4D79-8642-6D0778E56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BD2A1-2BD0-4EF7-97ED-13E93FF7C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697F9-B65F-4B13-8A5E-9268ED7C9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96398-B24B-4ADF-80BB-B00B63934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BFE6B-4D6B-4E49-98B6-D799281A4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F4C0D4-6599-4909-AA22-D09FE4E162B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