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47896"/>
        <c:axId val="25265801"/>
      </c:barChart>
      <c:catAx>
        <c:axId val="74847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65801"/>
        <c:crosses val="autoZero"/>
        <c:auto val="1"/>
        <c:lblAlgn val="ctr"/>
        <c:lblOffset val="100"/>
        <c:noMultiLvlLbl val="0"/>
      </c:catAx>
      <c:valAx>
        <c:axId val="25265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47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4BB-B5DA-4C24-98AC-CB0D9044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2BA-5C06-4DFB-920A-80908CFB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B58-0437-4FB4-A8F2-BF742DE4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5C7-1AB7-4529-8752-70ACFFC3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8DE-0EC2-4B32-A4B1-528F65B8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A14-1C6E-42BA-84DD-F7D11E67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EEC-A777-497F-820A-E3FF7FDE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D54-458D-4F67-9FFB-2A0B0EBE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6AF-C6E4-4D8A-A37F-975F9912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9A7-798E-4856-9F2E-9B71FAEE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EC4-CC85-4E7F-8AA4-57A3637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C43-C45C-49F9-89A7-D69F1AAA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3A861-C41D-49E9-BF0E-207C5550D6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