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37140"/>
        <c:axId val="59518101"/>
      </c:barChart>
      <c:catAx>
        <c:axId val="42437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18101"/>
        <c:crosses val="autoZero"/>
        <c:auto val="1"/>
        <c:lblAlgn val="ctr"/>
        <c:lblOffset val="100"/>
        <c:noMultiLvlLbl val="0"/>
      </c:catAx>
      <c:valAx>
        <c:axId val="59518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7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BA9-B5A9-432B-9FAD-7699FC34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54A-6BF2-4188-8C8F-8C6480B3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852-3D0E-477D-BD5E-510DE0F3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33B-7B03-4308-A3B6-16D2204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B99-E536-45D8-A105-0E6332F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EEC-3608-4599-AE4A-3460299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13E-0FCA-4934-8D4E-4F1D410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BC0-1902-4D9D-A176-6F5B60E4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084-A3DA-40ED-8510-CC81ADF3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E75-AF47-419C-B4DD-B8A1F5D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132-0654-4DB9-A855-E8E7C3F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75F-21A9-4037-AFB1-83D8085E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B7662-ECE3-4749-B774-F2B002DDCD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